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135E-4231-4057-88AB-3DBA5093C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three types of spatial data in a GIS (the others being image and raster data). Vector data represents geographic objects as points, lines or polyg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ster = A data structure composed of a grid of cells. Groups of cells represent geographical features; the value in the cell represents the attribute of the fe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QQ’s = computer-generated image of an aerial photograph in which image displacement caused by terrain relief and camera tilts has been removed. It combines the image characteristics of a photograph with the geometric qualities of a map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homepages.inf.ed.ac.uk/rbose/pubs/200404_ICESS/200404_icess_ppt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 Metadata Framework to Support the Preservation of Digital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 Metadata Framework to Support the Preservation of Digital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 Metadata Framework to Support the Preservation of Digital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 Metadata Framework to Support the Preservation of Digital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gital Provenanc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ation of processes in a Digital Object’s life cycle. Dig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enance typically describes Agents responsible for the custody and stewardship of Dig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s, key Events that occur over the course of the Digital Object’s life cycle, and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associated with the Digital Object’s creation, management, and preserv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B7A35-DDAC-42CB-AE38-FC31F3D9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F4A87-B2F5-4C92-8BF4-BF6C5F55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6EAF6-D902-40D2-A8F6-88AAF9B7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9D3EC-BC36-4ACE-9FCD-FDBA2728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FFD4-31E0-46CD-AA49-DA363B91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EB36-719C-4FC1-ABC0-E41C2A9B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E2D9-25E7-4D8D-A4BD-5C35A6E4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180C-59E0-4292-B907-DE9A6B2E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F398-1D2A-4E93-A5D2-F231A454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0426-0052-4567-A676-B6D9DD33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3E3F-94D9-40E3-A7F1-82DE2697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BD901-CE2F-4757-82E7-D8869A03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2C3B-88EA-44A4-A70B-E8EA08A0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6806-0A70-4256-98A8-949E3D0A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D1DE-3533-42E5-A4D8-71F73EFD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AAC3-40C2-4C3E-AA1D-C1C93819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6F3A-87FB-4BD3-A0AC-A402FD23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BF1C6-EA60-4A8A-A26D-48355A72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72AC4-F6BA-4F49-97F0-84E50F5B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1B031-C783-421B-905D-C46BFC98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906C3-9263-4C8F-AA81-2672ECA6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6DCC4-97F8-468D-81B7-A070F8AB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83A5E-848E-4FAB-A593-F6C48262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50ED9-9C8F-4228-9C4A-BF6748CB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A65E-B01A-449D-9B15-A29465442B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A24C-8A5E-40FC-B1CE-914FD1825B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ngda.org/research.php" TargetMode="External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oc.gov/standards/premis/index.html" TargetMode="External"/><Relationship Id="rId2" Type="http://schemas.openxmlformats.org/officeDocument/2006/relationships/hyperlink" Target="http://www.loc.gov/standards/premis/v2/premis-2-0.pdf" TargetMode="External"/><Relationship Id="rId3" Type="http://schemas.openxmlformats.org/officeDocument/2006/relationships/hyperlink" Target="http://www.loc.gov/standards/premis/v2/premis-2-0.pdf" TargetMode="External"/><Relationship Id="rId4" Type="http://schemas.openxmlformats.org/officeDocument/2006/relationships/hyperlink" Target="http://www.loc.gov/standards/premis/premis-registry.php" TargetMode="External"/><Relationship Id="rId5" Type="http://schemas.openxmlformats.org/officeDocument/2006/relationships/hyperlink" Target="http://www.loc.gov/standards/premis/pig.html" TargetMode="External"/><Relationship Id="rId6" Type="http://schemas.openxmlformats.org/officeDocument/2006/relationships/hyperlink" Target="http://www.loc.gov/standards/premis/pig.html" TargetMode="External"/><Relationship Id="rId7" Type="http://schemas.openxmlformats.org/officeDocument/2006/relationships/hyperlink" Target="http://www.loc.gov/standards/premis/pig.html" TargetMode="Externa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810760" y="-30240"/>
            <a:ext cx="34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"/>
              </a:rPr>
              <a:t>Stanford Digital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0" lang="en-US" sz="4600" spc="-1" strike="noStrike">
                <a:solidFill>
                  <a:srgbClr val="cccce6"/>
                </a:solidFill>
                <a:latin typeface="Arial"/>
              </a:rPr>
              <a:t>PREMIS &amp; Geospatial Resources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ncy J. Hoebelheinri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Analyt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Mateo, C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DC72-9917-4A2D-A465-6B2536C9B9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umptions underlying PREM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“descriptive” metadata (used for search &amp; discove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“technical” metadata (usually about the format(s) of the component files or bitstr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as to be covered by domain specific metadata, e.g., FGDC or ISO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d the Gap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591D8-8FFD-4A3A-89C3-2764B77AA3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Example of use of PREMIS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ata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d at fil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insertion by Ingest code to retain important provenance info for each file before moving into the preservation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file name from data provi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check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fil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2C53F-9C71-42E0-B44E-13A6FED4DF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09480" y="1523880"/>
          <a:ext cx="784872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78487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MI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xcerpt (v1.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9729E-AB80-48DF-82D4-E788C8A73B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about PREMIS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Object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as associations b/w two or mor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entities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ies of different types, e.g., an Object &amp; an Ag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ed for long term preservation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relationship types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ponent of representation)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iv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ormat varieties)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equired schema or database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be expressed using other schemas for packaging the resource such as METS or XFDU or MPEG DI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06465-BBE5-499F-8F14-DF0AD510E0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PREMIS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Righ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ata elem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d at representation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to donor’s Deposit Agreement (using ME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info from the ingested Deposit Agreement for immediate play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119FE-2A1E-4C18-A77B-6E0BB65269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MI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igh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xcerpt (v1.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20880" y="1536840"/>
          <a:ext cx="7275240" cy="46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536840"/>
                    <a:ext cx="727524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F79B2-DF37-4D86-B4FE-087D8A08C3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PREMI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for simple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 of descriptive MD from MS Access db =&gt; XML =&gt; M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at representatio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2640" y="1523520"/>
            <a:ext cx="403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this event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ase of questions from outside dat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n singular scripts &amp; transform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practicability of recording such events in production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76E19-3EEF-48FA-9B54-CFF44EFDAD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MI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xcerpt (v1.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447920" y="1371600"/>
          <a:ext cx="6949800" cy="49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371600"/>
                    <a:ext cx="6949800" cy="49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C80C1-0AF8-4382-8FC1-6474ADEE44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other example:  GIS Dataset:  Street network of given  metropolitan ar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set 1:  official street centerline file used by emergency services to locate stree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set 2:  aspects of the road network including topography, angles &amp; geometry of the road network used for a tourist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4572000"/>
            <a:ext cx="8305920" cy="1713600"/>
          </a:xfrm>
          <a:prstGeom prst="rect">
            <a:avLst/>
          </a:prstGeom>
          <a:solidFill>
            <a:srgbClr val="cccc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 to be documented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c:\temp\states1;c:\temp \states2; c:\temp\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8E75C-93B2-4911-974E-77EE216EB4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PREMI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ata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describe full process of data cre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“merge” and data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 of PREMIS – can describe events once in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198072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this event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describe processes during different phases of lifecycle, even prior to inges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F9F5E-4A6D-4DC5-AEC3-604570EC53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Be Discus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ief History of PRE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verview of PREMIS data el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for Geospatial Resources: 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3CDFA-0C9F-410E-8BD0-11ECBF4787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PREMI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g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ata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ata management with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 trail for descriptive 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6840" y="198072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ion of Ingest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vider who created / altered the resource or the metadata, e.g., USGS which added FGDC MD to HRO from Monterey Bay Water Re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DBFC5-C1AF-48A5-A49C-CF61DC1372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MIS &amp; Geospatial data --  Comments based on experienc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ell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specific MD exists, e.g., FGDC for descriptive and technical 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levels of the resource with MD to be associated, e.g., at representation &amp; file(s)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ocument various points in the lifecycle of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B1A3A-048B-4A99-A65E-A6B9231352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MIS &amp; Geospatial data --  Comments based on experienc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arlier versions of PREMIS unclear how to docu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 including at time of cre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properti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nce of geospatial format regi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54B3C-DF7E-4E64-9F66-B0F5F4B733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MIS v 2.0 more flex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XML bi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con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hierarchical relationshi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ble by use of new &lt;premis:extension&gt; element to insert other elements, XML fragments,  e.g., technical MD, provenance metadata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rd considering the inclusion of mechanism used by packaging schemas to “wrap” or “reference” other metadat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AAAFF-28C9-4D43-B701-55CE2D2655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MIS &amp; Complex Geospatial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ore detail, see “An Investigation into Archiving Geospatial data Formats “ prepared for NGDA Project, funded by NDIIPP (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ngda.org/research.ph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s exami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aches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GD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M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Center for International Earth Science Information Network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ES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‘s Geospatial Electronic Record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model on basis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/ computer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antic underpinn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specific 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qu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priate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1E94A-8EB1-469E-B4F1-D957634AC40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Geospatial “Contex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3" marL="1584000" indent="-22608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ing dataset in Time &amp;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 underpinnings, e.g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ra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 of purpose / research methodolo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ded use of data to avoid misinterpretation or mis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o p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GDC has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MIS would not necessarily consider this as “preservation” metadata, but rather “descriptive” or technical MD, however see v 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E1140-66E7-48B5-AD14-5591CA1A69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“Environment” and/or “Significant properties” for geospati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W info pertinent at time of data cre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 info pertinent at time of data creation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ge or “provenance” data e.g., to communicate processing steps used to create scientific data 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, parameters &amp; source data which influenced or impacted the creation of the data set prior to its ingestion into the archive in order to full understand the data that you’re g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28A22-12B5-4B68-AF86-B9DE218CF0E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vironment” &amp; “Significant properties”, continue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Quality – describing completeness, logical consistency, attribute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ustworthiness – data creator / provider reliable? = “authenti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venance – processes &amp; sources for dataset = “understandable &amp; reli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of the specific needs of the “designated commun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E6001-24D3-445F-94FB-D1352A2859D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Questions? / comments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ancy J. Hoebelheinri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jhoebel@gmail.co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F6C3-F5B3-45AC-9C58-B56037D9C0B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rief History of PRE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MIS – Preservation Metadata came initially from cultural heritage / digital preservation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t upon previous initiative (2001 - 02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sored by two key library descriptive MD utilities (OCLC and RL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rvation Metadata Framework working 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d a report outlining types of information that should be associated with an archived digital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29F46-B596-43DE-BEF6-0BEE03762E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rief History of PRE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3 a PREMIS working group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ised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actitio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ilding or working on preservation repositories including national data centers in the UK &amp; US, Netherland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d upo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mplementabl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element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ed in a two pronged effort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surv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dictionary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servation semantic units (= data elemen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4CCB3-D528-4982-ACF7-85C9F2C9E7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rief History of PRE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MIS working group publ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plementing Preservation Repositories for Digital Materials: Current Practice and Emerging Trends in the Cultural Heritage Community”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mber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MIS Data Dictionary for Preservation Metadata, version 1.0”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3A79B-4ADC-4910-87A3-84ED04A036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rief History of PRE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MI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MI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ial committee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ed by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Library of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“PREMIS Data Dictionary for Preservation Metadata, version 2.0”,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March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uses?  See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implementation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PREMIS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Implementors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 Grou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IG) listserv for practitio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DDC42-1664-4679-A63C-2EFAAA1188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MIS Data Model for an “intellectual entity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52640" y="198072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e unit of information in digital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s or permissions info associated with Object or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lifecycle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es to Events and/or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4D56E-EFC7-4850-A8E5-2A4EA64C86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477120" cy="42228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MIS Data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5B7CA-EB2F-4201-9EC2-5AFAD880F7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PREMI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abstraction, meant to cluster semantic units and clarify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3 sub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usual su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tstre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ontiguous or non-contiguous data within a file that has meaningful common properties for preservation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set of files, including structural metadata, needed for a complete and reasonable rendition of an Intellectual 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681A9-ADE7-4E58-97BF-DF1E46444C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21:46:59Z</dcterms:created>
  <dc:creator>Tom Cramer</dc:creator>
  <dc:description/>
  <dc:language>en-US</dc:language>
  <cp:lastModifiedBy>Nancy Hoebelheinrich</cp:lastModifiedBy>
  <dcterms:modified xsi:type="dcterms:W3CDTF">2009-07-08T18:49:27Z</dcterms:modified>
  <cp:revision>156</cp:revision>
  <dc:subject/>
  <dc:title>Slide 1</dc:title>
</cp:coreProperties>
</file>